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E660-1474-4680-968D-597E179FE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ytimes.com/2008/09/16/health/research/16agi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i.edu/learn/brain/slee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katherinestonephd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A32-4F1F-4965-AAF2-B0A21C24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AA85-E422-420C-8779-0D0F5518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FD1-7D51-432F-AAF3-0DC4D19B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EFA-9696-48C4-89E7-81A3A5CC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0409-8B6B-4D51-B73F-B65F9318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10EC-EF13-4C6C-992F-F1229453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AB29-74A9-433D-8C8A-CD92E61F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44DF-B3F5-422F-B912-C45ACD6C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E513-C93C-4C71-AC4D-6CB95BD8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29E0-D347-4D2D-B450-911F3E7C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6036-95F3-4CF3-974D-D5234298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6EE-03E4-4B76-9B47-84660FE6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3474-AC06-4748-9DAF-72EBC226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C5FA-1BF9-4DD4-B982-000C696D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2E6E-7348-44AE-A552-1E3A1454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E7CC-48AA-4C37-9AD3-0FD97BC3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9D4D-84BB-45A4-AC60-03879E72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A2C-038E-469A-9AAE-EC24BE49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940-4D20-4A83-ADFE-8B78159B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AA1-6E03-46E7-8251-1F0A74CD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AA6-7A28-4D6A-8416-9FFD2F67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CFE-6301-46DE-BB5D-FCA087DD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766-5B3B-4CCF-9CEA-66E0500E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8FE-0F42-431E-8D9E-A69A955A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4B2F-EF8B-4C18-B51E-C4E9B463FD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E4D2-EC65-44DE-B600-DFE8AE4A2D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520" y="2438280"/>
            <a:ext cx="6324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굴림"/>
              </a:rPr>
              <a:t>Lack of Sleep Increases Risk of Fal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3505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ina Le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lock A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rding to research, women over 70 who get five hours of sleep a night or less may be more likely to fall than those who sleep seven to eight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ohol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eep med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any other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ffe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 sleep increase the risk of fal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who sleep less than 5 hours a day are 75% more likely to have fallen twice or more during the stud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919760" y="1828800"/>
            <a:ext cx="3265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Quo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think getting less sleep is just a normal aspect of aging, but you should bring it to the attention of your physician. There are options available for treatment.” - Katie L. Stone (California Pacific Medical Center Research Institu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2085840"/>
            <a:ext cx="380988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08:36:21Z</dcterms:created>
  <dc:creator>JiYun Lee</dc:creator>
  <dc:description/>
  <dc:language>en-US</dc:language>
  <cp:lastModifiedBy>JiYun Lee</cp:lastModifiedBy>
  <dcterms:modified xsi:type="dcterms:W3CDTF">2008-10-08T13:04:40Z</dcterms:modified>
  <cp:revision>21</cp:revision>
  <dc:subject/>
  <dc:title>Lack of Sleep</dc:title>
</cp:coreProperties>
</file>